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7B04-36E2-4BEA-98AD-8CB404ED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C5A-117D-4E94-94D0-99444100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FBC-B49D-41BA-9BA4-6E6B453D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020-CF59-4588-BD4F-62FFFF68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8154-3106-466D-9E76-50455CE0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A287-E7F2-4435-9F70-76DD71AE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A91F-7788-4353-A2D4-B56CC7BC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95C6-2E03-4DBB-ABBF-12AE29D6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F044-C1F1-4437-9C66-36EBA091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750B-87B6-4C64-9B68-7304956E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9BA9-5A7F-4880-9034-E0B08B50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4EAD-15D1-4D8F-81E0-617237E3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7A91-FCA0-4C9F-8A6E-E484E1C8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07AB-5CA7-4FA0-9537-4A23AF8E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5CF2-C710-4B22-8FC3-5AD98149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DEA4-0CCE-4BEC-9E91-ACB70765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A3B2-BEA4-4440-98A5-80945AC8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D9D-7206-4555-9071-40C7E075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244-0AE5-4EB7-BAE0-367ED007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AFDC-A35F-4FA1-ADE8-F25412E4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D8C-FCC8-47AF-B8B9-57A370B3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1D0-2FAB-478C-AAA2-D77B2CB9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9DB7-29D8-41F7-8E59-255D3F47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4E8A-A7A2-4FEF-941E-003E6C63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F85B-4C77-4538-9AA3-539907E064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6792-80FC-4952-B9D1-9B294773C3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Holocaus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-69840"/>
            <a:ext cx="89154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541440"/>
            <a:ext cx="8001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0556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oluntary Steriliz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933-1935 thousands sterilized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0,000 Gypsies, Black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20,000-350,000 mentally ill/handicapped steriliz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enturies of religious prejudi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odern political fear-extreme nationalis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nancial insecurit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ace’ science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93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itler named Chancellor of Germany, destroys German democrac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rrested political opponents, liberal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elief Germans ‘racially superior’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ews, Gypsies, handicapped threats to German ‘race’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93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ews accounted for about 525,000 people in Ger (less than 1% of the population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azis blamed Jews for WWI, economic depress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pril 1933-nation wide boycott of Jewish businesse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93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erman laws force Jews out of civil service jobs, universities, courts and other public lif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937-193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ews can’t go to public schools, theaters, resorts, walk in certain parts of cit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azis seize Jewish businesses/propert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ristallnacht Nov 193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 of Broken Glas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ttacks against Ger &amp; Austrian Jew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ynagogues, businesses burned, people arrested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55920" y="0"/>
            <a:ext cx="60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8458200" cy="67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4:49:01Z</dcterms:created>
  <dc:creator>Stephen Rauch</dc:creator>
  <dc:description/>
  <dc:language>en-US</dc:language>
  <cp:lastModifiedBy>Stephen Rauch</cp:lastModifiedBy>
  <dcterms:modified xsi:type="dcterms:W3CDTF">2008-03-28T19:46:01Z</dcterms:modified>
  <cp:revision>4</cp:revision>
  <dc:subject/>
  <dc:title>Holocaust</dc:title>
</cp:coreProperties>
</file>